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A69-B8D0-42C8-A53F-26C31E32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09E-CC75-4766-88F7-F8FBF06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BBF-908C-4645-B9FE-B6651C9B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FC9-27EB-4056-97BD-AF0618C3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6DA-3AA5-468D-9234-43C513EF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82C-D730-44FD-9D71-CB78623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EFE-8148-4B8C-B543-E53C93C1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791C-246F-492C-B9CE-46506432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7A44-8239-4887-BACF-089362D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BF8F-D4CA-4744-A88B-821E727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DEA-00C8-4A67-893F-99B75CA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009-BFF0-40D1-8A76-EE7A36AF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4ACD-EC77-4483-AB48-34CC8F2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E2DA-4D46-4EB9-BADE-99D2ADA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B69-0E45-48F6-87DE-34A6042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604D-72CF-443B-AFC0-5F0EB3C7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A2C-7516-44FC-9EB3-948DFAEE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097-AF65-4D75-8639-6D0AE49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118-B5C5-403D-B1A8-952C89B0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324-60EA-4C48-A945-C666BE6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B7B-F531-437C-B9A1-C5830BA7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F0E-3574-4405-9378-2519A5C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C3A-C500-4D98-9D34-4EF7AEC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E62-6027-40A4-9E64-A73D71B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049-0BA3-441D-A5D8-EA2186FD2B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5D2-0F4E-49A8-94BE-D8D7B903F3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586F-4BC5-4617-8383-5E6F8AB5C1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9440" y="1752480"/>
            <a:ext cx="78357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35F-7C73-43CD-BA1E-0E6C854CB0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06560" y="1752480"/>
            <a:ext cx="7119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D9B-3105-4810-8897-8234EB6F3A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10-M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al Percentage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E66-8938-4954-A2CB-22A3EE49A2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ust 2007 Resource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797-93BD-4305-9ED5-914D0BD27D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211 entities registered in the ERCOT Region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entities officially appealed their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peals heard by NERC Board of Trustees Compliance Committee (BOT C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/Pl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peals pending and will go before the BOT CC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entities appealing their registration as a Generator Op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47D-295F-400D-814B-F2CAAB1BF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FB8-4886-4E52-AFAC-52FD8025D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7AB-1C8F-444D-A6BF-11553738BD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Review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vents by S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FC7-02F6-4C2E-81F2-C1800BCE5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olations of ERCO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ocols Reported by Sea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D00-B1D9-43C7-B234-5942F756C0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Violations of NERC Standard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ed by Sea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3D6-AD19-43E3-87FF-30949A1FF3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for August – 135.5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ores for August indicate all non-wind-only QSEs passed the PRR 525 mea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all control performance score using the PRR 525 measure (SCPS) for non-wind-only QSEs &gt;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76E-C0DB-42D1-B076-AA80F8571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to June 18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4E3-11A7-4BB0-BD50-56FA8AB88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lf-Reported Violation Risk Fact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4888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2C7-95F2-4735-BB59-43AA105FA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Reported Violation Risk Fa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z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6CC-39BC-48FF-9A93-6D414E3CD7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ptember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NERC DCS Ev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s of transmission facilities caused by wea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84 MW of generation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dipped to 59.739 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aR manually deplo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CP Step 1 declared due to low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reportable disturb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recovered in 6 minutes – No violation of NERC BAL-002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1150 MW LaaR deployed across ERCOT Region within 10 min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 information indicates that one QSE with LaaR may not have met requir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9CC-5EFF-4A84-81DE-A419A88B3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ugust……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 New Events repor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compliance investigations &amp; reports requir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 On-Site Audits complet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 Pending Registration Appe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F02-150D-415C-BD8C-877AB66D18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Board Appro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nded Delegation Agreement between Texas RE and NER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ions made to Exhibit D, Exhibit D Attachments 1 &amp; 2, and Exhibit E to address FERC Di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as RE Board-approved Delegation Agreement to be provided to NERC by Octo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Board of Trustees to approve week of Octo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to file Delegation Agreements at FERC on October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CE3-E8A5-4F8F-9115-F4EE1368E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201-8C53-4662-94FB-9A011D836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us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ust 2007:  135.59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ust 2006:  151.33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ug 2007:  132.6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ug 2006:  140.09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August indicate all non-wind-only QSEs pass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F04-904C-4B6E-A603-EEBEE7F03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409-EC0D-4E0E-97F7-754C98957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1AD-DF81-4B84-AF71-93DFDEFE44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09-26T16:40:00Z</dcterms:modified>
  <cp:revision>766</cp:revision>
  <dc:subject/>
  <dc:title>PRR 525 Compliance Analysis</dc:title>
</cp:coreProperties>
</file>